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</p:sldIdLst>
  <p:sldSz cx="104394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dt" idx="6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Img"/>
          </p:nvPr>
        </p:nvSpPr>
        <p:spPr>
          <a:xfrm>
            <a:off x="699840" y="744120"/>
            <a:ext cx="53974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ftr" idx="6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 type="sldNum" idx="6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185AD70E-4277-4B09-9A30-4CB4F4363C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4F25C475-5673-42C6-B6B4-CF6CFC999E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7D883776-01DF-4318-89E1-F57420B456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CD9A8CDF-BCCD-49A6-84D1-5C705F8468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125A4DC1-744D-44D2-8BC6-27C1B70C6C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pl-PL" sz="11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7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6CDA5AE0-23F4-466A-A92C-1633D475F6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E7618C03-5039-4A55-B99A-658956616E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C260DD2E-C9DF-4D1E-830B-BEC22C6BE2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FCF7CF47-931F-4BF9-834A-9B26CDEED0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BEA6E730-EBB5-4BCC-B30B-38A4E689C0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6EAC030A-AC35-4FFC-A055-88188C7540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B4E406EB-DCC5-4036-9D5B-80E58D413A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B7AC8C9B-EBE3-4531-9AF1-CBD14DCD49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6E134479-C887-4828-ABE3-222D1E47AA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841B8B93-C4E1-40F0-8BE5-70515B934E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31D26C8A-E3F3-4176-BD35-C9605254B7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E29F0C10-0254-41C1-BBDA-1C73A8E28D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1A72111F-C76B-485A-B506-A9A3CA8ED8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4B448CC4-746C-4B4B-85CC-831DD4B2D5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0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0CC31134-D947-453B-8E86-4A2626571B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8645CDE8-1747-478D-AADB-674162A66A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017F8D81-A198-4B6F-89A3-2F8006D2CC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2C7CCDD0-A9FB-4F2C-831E-1A2135D717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ACBE4260-0BE6-4C2B-82C7-7013F73AC4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700200" y="744480"/>
            <a:ext cx="5397480" cy="37227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sl-SI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Ograda številke diapoz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C397D0F9-F789-4FAA-A60E-DE6B72B505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951A7-2718-479E-8BF8-17A6DC25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CBBEA-92E3-4596-A26F-12B5DD8C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00070-730B-4393-9242-F6C88A69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15EA-2B4A-4AC4-BD3D-65444256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CFE89-FEF7-402B-98FB-F79F34A2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933DC-E00C-41DA-BFFA-64CD285F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4D646-35A9-4532-83BA-810CAD91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BE78-D9BE-4BA7-AA0D-5C49FAA0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5F524-60D6-4C69-A0C9-374131DC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F331E-8BB2-4DB2-8077-AC25635C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1D185-CF1D-4D2E-B80F-997AE74F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1B9C1-4614-49DE-85B0-864FD6C4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21924-49F8-466A-8A0E-398084F8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874A1-8488-4FFF-A94C-DB4F2CFA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5DD15-912F-4F0C-ACB6-CEEF8CD0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E7F63-DC60-4E98-84DD-1770453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0D0AF-7C22-4117-A6AD-B89A6496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FF247-A2B3-40CE-8BAC-A4F654DD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8AC6F-4D89-4961-9F98-BDD0A927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FE33A-307F-4B9B-95B6-35BEE89E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52A3E-34B2-4084-A5AB-3F5087C6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7EA90-B346-4D46-975A-780CF827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CBF37-6DFC-41EA-827F-6749BD4A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8EEDD-8399-4446-8E54-984B6E0E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BA5F1-AF84-490B-83D6-A9257380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26121-2894-4088-BCBA-53CA90ED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C7C54-7EBA-44C1-9A27-60DAD397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36405-B6A5-4808-A004-65D41E83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B4F59-46C1-411C-BDF6-1F8848A8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A29AA-6346-4F0B-BC63-C63CE5D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E40CE-C135-429C-97F3-214720D2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75A0A-82D8-4499-9B1F-F1895EEF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EC5DB-09D2-4797-9D02-32C4D120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AC644-2BF5-4478-86CB-93DD1B98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0178B-8C16-43E6-B1C0-77E86AA8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596EB-8F01-4D05-860F-2B49D9B1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A0CB8-F992-4E5F-BA3B-A7EFD9AD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5CCE0-858B-4BAB-9D10-1A09D7F9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CC40C-20A6-4559-89BD-5BF8E39C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4E07A-F97B-4D79-89A7-DE19618F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B5C01-5BC0-4ADB-8F11-45DA6E30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64C63-F1B5-4C13-A0BF-E5BE3A58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515C2-C69A-40DE-9359-E91DA257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2BD61-AE3C-452C-AC8A-390F929E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57F10-532C-4C24-8E98-CFA05D9F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876BD-BF1C-4B2C-ACA6-76243D82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7E903-7D16-4176-93C2-28DD466B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2D736-626E-4103-9CAB-08C3EAA2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A0D12-6009-46F9-B488-711D1886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B879A-5585-484D-BAD8-4DF6CFC6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00BBC-ECC2-467B-9235-3B3F1EC2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7E784-6C1B-4E81-8C93-68A3274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B4E02-D490-4EA2-9E36-7853735D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DE680-D8E5-48C0-A80D-98FBA55D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37098-2DAB-46E9-A116-EC141E4B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D1C4B-90DE-412E-9CCD-6D02B520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D36BD-4CB3-43A3-8EFC-55273E22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9B3DA-86EF-4B70-AC2A-D62089A1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C174B-3C91-4DAE-8E02-79464664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7DA0C-60EC-419D-A222-421A97B8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BCEED-1AF4-44C8-9ECC-1597987C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2DEA1-2DA3-423C-9064-46C2ACD6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0AE85-F0F6-41FC-B3D8-05B14C46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0F1A9-C850-4E13-8F01-FEE3238F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8EB8C-3C06-4D3D-9A49-22D6846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C46D8-845F-4CDA-8BFB-48F287C7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A43C8-9C88-4186-A573-927AE249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2730F-CE43-4579-AB96-5CDA7609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1E15E-4943-4588-B949-E46C8152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0B25B-E869-4508-9886-D0C13655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4E84A-B14B-4218-B111-268970A7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EAA8C-02E6-4282-8229-C9AF9243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56DAB-AA51-44D3-8C04-E9458AC2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A60D9-692E-4DDF-85C6-B75AAE4D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41A6A-F7A5-4323-A7FF-885BCC4F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995BE-91DD-46BD-8903-6A9518BC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B6317-C65A-4698-A812-EC88AB2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D626D-2C0F-42DC-B4A6-97250CF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981D2-3F3E-464B-8A50-6290935E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798F2-5972-44F0-9C31-875F89B3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C5918-5BA9-468E-A67B-5986F91A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1E53C-8A43-418D-96C1-3E26D560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750B6-66C5-46A3-B950-3AD53A84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65D46-AFBE-4F07-A016-6DEF7130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5E219-DC54-4353-88E6-28ADEDB2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5A1BD-63A5-49FD-8CD4-173BF03F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FE652-072D-4BE5-9891-110A5250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B7C66-8CB9-4C57-8EF7-EF3954E0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83201-1D3D-42FD-8A09-0D4E0030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4F4E5-0294-48DF-89AE-DBFFAD4F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DF744-CC43-4BCC-A578-3AADE89A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F5D14-1DB2-4F32-BD48-3E83E066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07B36-1AC6-4C01-90FF-D6124E3D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97BAA-FC41-45A2-9826-E9A8B6B1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C9166-1507-44FA-A23D-736A4F4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14FC6-02BB-4BC8-B251-E69794D9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6DF569-9CB2-4445-8EDC-A505625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1CDCF-07FB-44DE-90D5-E4065F8B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EACFD-66B3-4C8B-9004-59BFBC7D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18437-39ED-48F0-B22D-495CB45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9033E-13DE-42D3-B405-6D7A7094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B45BA-94E7-4A88-AC9D-A759FA4C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5B514-CC25-4CB6-B4E1-C86EBDD4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058B8-9AB7-4CCC-848C-A38572FD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08424-AAFF-4FE8-9710-5A5A3DC0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A2293-C42B-409D-881F-25A901D8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CA03C-B5D8-4BC9-9870-B3DDF52F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96CE0-8D79-4A3F-827F-8EE4F1A9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B044A-E90D-4BB7-9119-27172214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D0346-5B35-40D0-A875-B91547EF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A66EB-8810-4E5A-AB85-135BD90F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C73D5-762B-4C3A-8E45-6D34857F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E4624A-6E94-4A53-8445-8D6700C9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A3439-E6E5-4E95-B363-E8F4541C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7E157-5549-4CAB-8677-C02143AE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C9A03-7844-43CA-A1AB-DFAC570E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78274-7D70-4731-BE1D-4C70EAFC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5C341-18F5-4784-9D89-77A36396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DABCE-59EA-4129-A62C-88E8D37C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39C58-C3D4-482C-AC95-82FD3E57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17F22-F5DD-4E07-8B53-E8E7516A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F037F-D3AF-4C8E-82A6-61D34C17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D37D2-9108-4984-BC04-A2C7F081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C55B3-BD3A-4CBB-ACFF-DA0B0976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9F3D4-CE2D-44EE-B6AA-24C52684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C139D-517A-4742-A2CF-0DEC7711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ECE362-4F17-405E-9619-9BBCA454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5C15F4-5B78-43D3-BEE9-278E92B4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D5241-FE39-4673-9A3B-EC3A2653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6C7485-92BC-4480-A02F-F2EE8FB3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CB8DE6-E498-4DFA-A14E-307B0AD5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5740CF-9B99-459B-AA95-87073DD7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DF69A-17CF-4643-8145-92F117F7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F4BD3-92D0-43E9-B3A3-54A860DF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7AD866-D625-4A99-8D95-3E75D26F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B2898-3E10-48E2-B3F1-1B5484B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0A2D31-A6FA-40F7-A21F-3464EE6E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A3B77-AAEC-4453-B4B6-80514201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CF704-F1BC-4182-9E18-EF7A46ED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E9E7A-D1F8-4623-A530-34406472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62349-3697-4313-B043-A824A295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C4260B-1402-4BA3-8B57-DE5BC575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ACDE4-C401-4702-9B00-0B27F3D7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17702-62DA-4BBE-AC25-428C74DF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17864-1731-4F1E-9810-1A8700DE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41C2F8-69F8-4DA8-BBDF-7F4940F2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5131CA-511C-4F5D-8481-2940E330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DFF1B-D598-4DD5-A39F-DA1AA28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9D77AF-8BAE-4E88-B62F-F235979F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D2AFA5-3C40-4C7C-9B7D-D85538EA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D6E-59FF-4B6D-8221-0EA34D46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E7CC68-D07B-4E8C-8556-6108F1B7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365F04-C8FE-4C83-9B61-2DAA2152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5C1C6-C0F0-45D6-AE74-1A7C8E9F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C7E4F6-C121-49C2-B519-E8921B99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8DBFE5-B430-4519-9845-D48CED81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848B6-C163-4997-9670-D5721FE0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12DADD-A627-4FDB-8CE3-27F89D79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52386-A0E5-4F69-A8F4-9B0BF251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EB47E5-8180-4390-A682-6E2E36A0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204FD8-3DE0-4900-8E70-796B8656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8D5-6F15-4545-983B-EABB4A0B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C27D35-778D-4EE7-A450-EF11311C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25AE5-3F08-441B-B14A-15CDA280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73762E-6AF3-4DF2-AE24-C10EC2D3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DE8DB-E4D8-440A-9DDA-30EAC610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5A329-FA03-40DC-AEFF-D2BEEB82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952-61A0-4701-A6DF-9FCB4C64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D1D-1CB4-4E8F-B784-75D407AE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E78-3658-4230-9F49-4B6AD598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5E7-0AF2-4313-989A-5B180DC7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016-F3F9-4C2D-B96C-1029C972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099-B74A-415B-A08B-03878014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97A-4940-499D-899C-05775E84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CD4-21E3-4DD6-BBB6-79324C9D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2FC-C315-4751-A8D0-1B2C3313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970-DFC9-4EFB-8D55-D0EEEAD0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E1E1-2686-4AA9-94A4-8AED9B1F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BB48-E956-49CE-9ABC-AB81AFE9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CDDC-0AF0-47A4-B9B5-D1AB5C35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2C32-6EC5-4069-AA5A-A3B41F92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4D21-6023-41BF-BA09-88012B6F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AF0A-2015-4B0A-AF19-7727864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EAD8-A1AA-4F5B-8DD2-C38E6E92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E12E-7FCF-40CA-BA49-7581B267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6CCD-F18C-40CA-8D2D-57017ADF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CB04-C6D2-4C42-9790-A43D7286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77A6-FA09-4781-AC64-463B92AC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E228-9734-4796-AE47-65D7D885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DD51-F43A-4003-AEFF-38F98883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8AADC-CFD0-4DCA-B880-6F604E43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B90F-3440-4EA0-906A-3C7D4D6F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75B56-348E-4954-958E-5EF5F037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D5BB-375A-4DED-8CE0-247A7E44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72F32-9CBF-401C-9F2D-7CC16907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E327E-1C26-480B-83FA-1113E582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22C4-D3E0-443E-A7A6-4270F1F2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52D1-19B8-449C-A4AD-2EE8109B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FC4B-2F44-41A8-9811-5E9088B8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5CF53-B0DD-4966-8DDD-DD28EED2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6160-AD4B-424F-BBE6-0BFD23FB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760AA-5F96-49D8-9443-BFE01B96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CACCF-E1D1-4C7C-9858-91EB80D2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A19E9-6C81-46F0-9DA9-77239F7C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CAC53-9694-4661-AE9D-5FE2259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4D83E-8100-43A9-AF5D-11C99271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8941-AE1D-4AA8-9229-8FB7C258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B086C-59C0-4500-91E9-2CFE465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D4DF2-1898-48F9-8FD3-825D1D7C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221AA-BB72-4956-B9A3-0D430EF3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C3F4-275D-4169-A628-1EA84FA8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56159-2DEF-48D1-B037-5F215AF0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B917-DE16-4639-AAD8-A2B0458A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0FDFF-FCDF-4C9A-98A1-3839E2FD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4F8FC-83A2-438F-966F-5BB98382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F015E-70F4-4403-A430-C9BCAFD0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A0E02-9D51-4C38-B2B9-9969FDCA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B282A-9269-4BD5-AFB9-FB4A32EB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A1D9-BB59-4D53-8781-4C1B72DA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CB9EC-9DDE-4182-A89E-9D5F8D4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C9F2-3DBF-4150-B767-7D7FACE5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8EFEC-225F-46F8-BAD6-D544DBB8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70DD6-2747-4858-9B24-40ED56D2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0E1D0-2AF6-4BB5-BAFD-6FBCAE4B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4555-BDB9-4957-AED6-51E1B83E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C9CAB-FBC6-466A-9DCD-0D5F9A6F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B3D07-052F-488B-8DFE-05D07487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A78BB-5118-40E9-90E7-9E2665BE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FC3B1-9D75-4CF3-BB0C-B6CC6D21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464CB-020A-48E9-8D6C-90EF0BC9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17A78-848A-417E-B387-F7043BD7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36130-6E80-41E0-95C6-A889929B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D97F5-0481-4059-B113-F06453B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CD2AD-2C47-458E-8381-128C361D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648CB-68E2-4C60-99D2-1AFAC769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8AF2-3296-4516-BB1D-B54F64C1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D327C-2EC3-4E46-B8E4-E1B34DF6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9F231-FAF3-47E9-B086-42607E29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3CFD5-C277-4CA1-999D-9B532B5B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05E62-DB57-48E9-92E8-FDB776FF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1" name="Image 11" descr=""/>
          <p:cNvPicPr/>
          <p:nvPr/>
        </p:nvPicPr>
        <p:blipFill>
          <a:blip r:embed="rId3"/>
          <a:stretch/>
        </p:blipFill>
        <p:spPr>
          <a:xfrm>
            <a:off x="-461880" y="-1049400"/>
            <a:ext cx="11368080" cy="2676600"/>
          </a:xfrm>
          <a:prstGeom prst="rect">
            <a:avLst/>
          </a:prstGeom>
          <a:ln w="0">
            <a:noFill/>
          </a:ln>
        </p:spPr>
      </p:pic>
      <p:pic>
        <p:nvPicPr>
          <p:cNvPr id="2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873840" y="198360"/>
            <a:ext cx="19303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Image 6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375" name="Image 11" descr=""/>
          <p:cNvPicPr/>
          <p:nvPr/>
        </p:nvPicPr>
        <p:blipFill>
          <a:blip r:embed="rId3"/>
          <a:stretch/>
        </p:blipFill>
        <p:spPr>
          <a:xfrm>
            <a:off x="-461880" y="-1049400"/>
            <a:ext cx="11368080" cy="26766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873840" y="198360"/>
            <a:ext cx="1930320" cy="5112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dt" idx="22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ftr" idx="23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24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7845F6F3-DC5A-4963-9A8F-37164E250EF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Image 6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417" name="Image 11" descr=""/>
          <p:cNvPicPr/>
          <p:nvPr/>
        </p:nvPicPr>
        <p:blipFill>
          <a:blip r:embed="rId3"/>
          <a:stretch/>
        </p:blipFill>
        <p:spPr>
          <a:xfrm>
            <a:off x="-461880" y="-1049400"/>
            <a:ext cx="11368080" cy="2676600"/>
          </a:xfrm>
          <a:prstGeom prst="rect">
            <a:avLst/>
          </a:prstGeom>
          <a:ln w="0">
            <a:noFill/>
          </a:ln>
        </p:spPr>
      </p:pic>
      <p:pic>
        <p:nvPicPr>
          <p:cNvPr id="418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873840" y="198360"/>
            <a:ext cx="1930320" cy="5112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dt" idx="25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ftr" idx="26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7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889D86AA-B093-4E58-80D4-1B705D5EF792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459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dt" idx="28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ftr" idx="29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30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FB11DF7D-FE8C-44A0-896A-996E343FE555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501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4B7DA269-C7F8-4177-86BD-A66F79D43B53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543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544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34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35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36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581A8A05-2640-4DF5-B370-6243A9EA889C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585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586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dt" idx="37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ftr" idx="38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39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50AE81AC-8932-4D4E-BFFC-D195F86A2931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627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628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dt" idx="40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ftr" idx="41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42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EA6BAE03-A70B-4459-B263-463A45C84918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669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670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dt" idx="43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ftr" idx="44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5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6BCCB713-15D6-4752-B3BA-72445E2C8EBF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711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712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dt" idx="46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ftr" idx="47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48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85165C8F-7C60-411B-8820-06B6AE540256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753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754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dt" idx="49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ftr" idx="50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sldNum" idx="51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484668EF-792A-42E7-A22E-5F5B9CF3A014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41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795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796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dt" idx="52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ftr" idx="53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54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6D1E59A3-0E48-434D-BF12-E315EEC78BED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837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838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dt" idx="55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ftr" idx="56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Num" idx="57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7F19B035-E9CC-4DFD-8BFC-6563E485DCE0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Image 1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879" name="Image 10" descr=""/>
          <p:cNvPicPr/>
          <p:nvPr/>
        </p:nvPicPr>
        <p:blipFill>
          <a:blip r:embed="rId3"/>
          <a:stretch/>
        </p:blipFill>
        <p:spPr>
          <a:xfrm>
            <a:off x="-461880" y="-447840"/>
            <a:ext cx="11368080" cy="2675160"/>
          </a:xfrm>
          <a:prstGeom prst="rect">
            <a:avLst/>
          </a:prstGeom>
          <a:ln w="0">
            <a:noFill/>
          </a:ln>
        </p:spPr>
      </p:pic>
      <p:pic>
        <p:nvPicPr>
          <p:cNvPr id="880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839880" y="469800"/>
            <a:ext cx="2851200" cy="75744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dt" idx="58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ftr" idx="59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sldNum" idx="60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A887B5B3-4EE6-4F5C-8712-8F956E3F93C9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6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79" name="Image 11" descr=""/>
          <p:cNvPicPr/>
          <p:nvPr/>
        </p:nvPicPr>
        <p:blipFill>
          <a:blip r:embed="rId3"/>
          <a:stretch/>
        </p:blipFill>
        <p:spPr>
          <a:xfrm>
            <a:off x="-461880" y="-1049400"/>
            <a:ext cx="11368080" cy="2676600"/>
          </a:xfrm>
          <a:prstGeom prst="rect">
            <a:avLst/>
          </a:prstGeom>
          <a:ln w="0">
            <a:noFill/>
          </a:ln>
        </p:spPr>
      </p:pic>
      <p:pic>
        <p:nvPicPr>
          <p:cNvPr id="80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873840" y="198360"/>
            <a:ext cx="1930320" cy="511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8446C4E6-EE92-47F8-85B0-6007AB2EDCD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 6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123" name="Image 11" descr=""/>
          <p:cNvPicPr/>
          <p:nvPr/>
        </p:nvPicPr>
        <p:blipFill>
          <a:blip r:embed="rId3"/>
          <a:stretch/>
        </p:blipFill>
        <p:spPr>
          <a:xfrm>
            <a:off x="-461880" y="-1049400"/>
            <a:ext cx="11368080" cy="267660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873840" y="198360"/>
            <a:ext cx="1930320" cy="5112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4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5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18C981B4-5733-4553-A0FD-8AE429732F56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age 6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165" name="Image 11" descr=""/>
          <p:cNvPicPr/>
          <p:nvPr/>
        </p:nvPicPr>
        <p:blipFill>
          <a:blip r:embed="rId3"/>
          <a:stretch/>
        </p:blipFill>
        <p:spPr>
          <a:xfrm>
            <a:off x="-461880" y="-1049400"/>
            <a:ext cx="11368080" cy="2676600"/>
          </a:xfrm>
          <a:prstGeom prst="rect">
            <a:avLst/>
          </a:prstGeom>
          <a:ln w="0">
            <a:noFill/>
          </a:ln>
        </p:spPr>
      </p:pic>
      <p:pic>
        <p:nvPicPr>
          <p:cNvPr id="166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873840" y="198360"/>
            <a:ext cx="1930320" cy="511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ECA75A09-7C6F-4054-B4F7-A175E720DD02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Image 6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207" name="Image 11" descr=""/>
          <p:cNvPicPr/>
          <p:nvPr/>
        </p:nvPicPr>
        <p:blipFill>
          <a:blip r:embed="rId3"/>
          <a:stretch/>
        </p:blipFill>
        <p:spPr>
          <a:xfrm>
            <a:off x="-461880" y="-1049400"/>
            <a:ext cx="11368080" cy="2676600"/>
          </a:xfrm>
          <a:prstGeom prst="rect">
            <a:avLst/>
          </a:prstGeom>
          <a:ln w="0">
            <a:noFill/>
          </a:ln>
        </p:spPr>
      </p:pic>
      <p:pic>
        <p:nvPicPr>
          <p:cNvPr id="208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873840" y="198360"/>
            <a:ext cx="1930320" cy="511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dt" idx="10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1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2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F3839DEA-7FFD-485D-AF0B-9A6EF1D34B5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Image 6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249" name="Image 11" descr=""/>
          <p:cNvPicPr/>
          <p:nvPr/>
        </p:nvPicPr>
        <p:blipFill>
          <a:blip r:embed="rId3"/>
          <a:stretch/>
        </p:blipFill>
        <p:spPr>
          <a:xfrm>
            <a:off x="-461880" y="-1049400"/>
            <a:ext cx="11368080" cy="2676600"/>
          </a:xfrm>
          <a:prstGeom prst="rect">
            <a:avLst/>
          </a:prstGeom>
          <a:ln w="0">
            <a:noFill/>
          </a:ln>
        </p:spPr>
      </p:pic>
      <p:pic>
        <p:nvPicPr>
          <p:cNvPr id="250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873840" y="198360"/>
            <a:ext cx="1930320" cy="5112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dt" idx="13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ftr" idx="14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5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FDB95A0A-21E6-4A7C-AAB4-06E9934B31AA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mage 6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291" name="Image 11" descr=""/>
          <p:cNvPicPr/>
          <p:nvPr/>
        </p:nvPicPr>
        <p:blipFill>
          <a:blip r:embed="rId3"/>
          <a:stretch/>
        </p:blipFill>
        <p:spPr>
          <a:xfrm>
            <a:off x="-461880" y="-1049400"/>
            <a:ext cx="11368080" cy="2676600"/>
          </a:xfrm>
          <a:prstGeom prst="rect">
            <a:avLst/>
          </a:prstGeom>
          <a:ln w="0">
            <a:noFill/>
          </a:ln>
        </p:spPr>
      </p:pic>
      <p:pic>
        <p:nvPicPr>
          <p:cNvPr id="292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873840" y="198360"/>
            <a:ext cx="1930320" cy="5112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dt" idx="16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ftr" idx="17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8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AFF45E73-E225-4822-8015-82AE3C00AEE0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Image 6" descr=""/>
          <p:cNvPicPr/>
          <p:nvPr/>
        </p:nvPicPr>
        <p:blipFill>
          <a:blip r:embed="rId2"/>
          <a:stretch/>
        </p:blipFill>
        <p:spPr>
          <a:xfrm>
            <a:off x="333360" y="133200"/>
            <a:ext cx="9774360" cy="6921720"/>
          </a:xfrm>
          <a:prstGeom prst="rect">
            <a:avLst/>
          </a:prstGeom>
          <a:ln w="0">
            <a:noFill/>
          </a:ln>
        </p:spPr>
      </p:pic>
      <p:pic>
        <p:nvPicPr>
          <p:cNvPr id="333" name="Image 11" descr=""/>
          <p:cNvPicPr/>
          <p:nvPr/>
        </p:nvPicPr>
        <p:blipFill>
          <a:blip r:embed="rId3"/>
          <a:stretch/>
        </p:blipFill>
        <p:spPr>
          <a:xfrm>
            <a:off x="-461880" y="-1049400"/>
            <a:ext cx="11368080" cy="2676600"/>
          </a:xfrm>
          <a:prstGeom prst="rect">
            <a:avLst/>
          </a:prstGeom>
          <a:ln w="0">
            <a:noFill/>
          </a:ln>
        </p:spPr>
      </p:pic>
      <p:pic>
        <p:nvPicPr>
          <p:cNvPr id="334" name="Image 1" descr="LogosEEAgrantsNORWAYgrants_CMJN.emf"/>
          <p:cNvPicPr/>
          <p:nvPr/>
        </p:nvPicPr>
        <p:blipFill>
          <a:blip r:embed="rId4"/>
          <a:stretch/>
        </p:blipFill>
        <p:spPr>
          <a:xfrm>
            <a:off x="6873840" y="198360"/>
            <a:ext cx="1930320" cy="5112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dt" idx="19"/>
          </p:nvPr>
        </p:nvSpPr>
        <p:spPr>
          <a:xfrm>
            <a:off x="522360" y="6673680"/>
            <a:ext cx="243504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ftr" idx="20"/>
          </p:nvPr>
        </p:nvSpPr>
        <p:spPr>
          <a:xfrm>
            <a:off x="3566880" y="6673680"/>
            <a:ext cx="33066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21"/>
          </p:nvPr>
        </p:nvSpPr>
        <p:spPr>
          <a:xfrm>
            <a:off x="7482960" y="6673680"/>
            <a:ext cx="2435400" cy="38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fld id="{406E5EC7-E2C5-4D59-B10F-899E212E4EC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orwaygrants.org/" TargetMode="External"/><Relationship Id="rId2" Type="http://schemas.openxmlformats.org/officeDocument/2006/relationships/hyperlink" Target="http://www.eeagrants.org/" TargetMode="External"/><Relationship Id="rId3" Type="http://schemas.openxmlformats.org/officeDocument/2006/relationships/hyperlink" Target="http://www.norwaygrants.si/" TargetMode="External"/><Relationship Id="rId4" Type="http://schemas.openxmlformats.org/officeDocument/2006/relationships/hyperlink" Target="http://www.eeagrants.si/" TargetMode="External"/><Relationship Id="rId5" Type="http://schemas.openxmlformats.org/officeDocument/2006/relationships/hyperlink" Target="http://www.svrk.gov.si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itre 1"/>
          <p:cNvSpPr/>
          <p:nvPr/>
        </p:nvSpPr>
        <p:spPr>
          <a:xfrm>
            <a:off x="841320" y="2870280"/>
            <a:ext cx="9048960" cy="1542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3100" spc="-1" strike="noStrike">
                <a:solidFill>
                  <a:srgbClr val="000000"/>
                </a:solidFill>
                <a:latin typeface="Verdana"/>
              </a:rPr>
              <a:t>Temeljna programska navodi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itre 1"/>
          <p:cNvSpPr/>
          <p:nvPr/>
        </p:nvSpPr>
        <p:spPr>
          <a:xfrm>
            <a:off x="861840" y="4573440"/>
            <a:ext cx="8979120" cy="2527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Lidija Breskvar Žaucer, SV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sl-SI" sz="1500" spc="-1" strike="noStrike">
                <a:solidFill>
                  <a:srgbClr val="000000"/>
                </a:solidFill>
                <a:latin typeface="Verdana"/>
              </a:rPr>
              <a:t>Delavnica za nosilce projektov, izbranih na javnem razpisu za sofinanciranje projektov Programa Norveškega finančnega mehanizma 2009–2014 in Programa Finančnega mehanizma EGP 2009–2014, 4. junij 2015, Ljublj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Slika 2" descr=""/>
          <p:cNvPicPr/>
          <p:nvPr/>
        </p:nvPicPr>
        <p:blipFill>
          <a:blip r:embed="rId1"/>
          <a:stretch/>
        </p:blipFill>
        <p:spPr>
          <a:xfrm>
            <a:off x="4586400" y="434880"/>
            <a:ext cx="46638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ZoneTexte 8"/>
          <p:cNvSpPr/>
          <p:nvPr/>
        </p:nvSpPr>
        <p:spPr>
          <a:xfrm>
            <a:off x="1044720" y="1593720"/>
            <a:ext cx="888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Velja le za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projekte NOR programa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, katerih nosilci projektov so NVO in imajo nematerialni prispevek predviden v finančnem načrtu projek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ematerialni prispevek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ne sme preseči 50% lastne udeležbe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a nivoju projek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ZoneTexte 8"/>
          <p:cNvSpPr/>
          <p:nvPr/>
        </p:nvSpPr>
        <p:spPr>
          <a:xfrm>
            <a:off x="1044720" y="103320"/>
            <a:ext cx="5849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Nematerialni prispeve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(in-kin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ZoneTexte 8"/>
          <p:cNvSpPr/>
          <p:nvPr/>
        </p:nvSpPr>
        <p:spPr>
          <a:xfrm>
            <a:off x="1044720" y="3575160"/>
            <a:ext cx="444168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pl-PL" sz="2000" spc="-1" strike="noStrike">
                <a:solidFill>
                  <a:srgbClr val="404040"/>
                </a:solidFill>
                <a:latin typeface="Verdana"/>
              </a:rPr>
              <a:t>Pr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1120680" y="4013280"/>
          <a:ext cx="8545680" cy="2763720"/>
        </p:xfrm>
        <a:graphic>
          <a:graphicData uri="http://schemas.openxmlformats.org/drawingml/2006/table">
            <a:tbl>
              <a:tblPr/>
              <a:tblGrid>
                <a:gridCol w="3635640"/>
                <a:gridCol w="817560"/>
                <a:gridCol w="1904760"/>
                <a:gridCol w="2187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čni nač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k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janska real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astna udelež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 Denarni prispev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1" lang="pl-PL" sz="1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</a:t>
                      </a:r>
                      <a:r>
                        <a:rPr b="1" lang="pl-PL" sz="1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.2. Nematerialni prispev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1" lang="sl-SI" sz="1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.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.5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Nepovratna sred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ni upravičeni stroški projekta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503280"/>
                          <a:tab algn="l" pos="1006560"/>
                          <a:tab algn="l" pos="1509840"/>
                          <a:tab algn="l" pos="2013120"/>
                          <a:tab algn="l" pos="2516040"/>
                          <a:tab algn="l" pos="3019320"/>
                          <a:tab algn="l" pos="3522600"/>
                          <a:tab algn="l" pos="4025880"/>
                          <a:tab algn="l" pos="4529160"/>
                          <a:tab algn="l" pos="5032440"/>
                          <a:tab algn="l" pos="5535720"/>
                          <a:tab algn="l" pos="6039000"/>
                          <a:tab algn="l" pos="6541920"/>
                          <a:tab algn="l" pos="7045200"/>
                          <a:tab algn="l" pos="7548480"/>
                          <a:tab algn="l" pos="8051760"/>
                          <a:tab algn="l" pos="8555040"/>
                          <a:tab algn="l" pos="9058320"/>
                          <a:tab algn="l" pos="9561600"/>
                          <a:tab algn="l" pos="1006488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ZoneTexte 8"/>
          <p:cNvSpPr/>
          <p:nvPr/>
        </p:nvSpPr>
        <p:spPr>
          <a:xfrm>
            <a:off x="1044720" y="1812960"/>
            <a:ext cx="8883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osilec projekta/partner mora biti do oddaje vmesnega poročila, v katerem prvič uveljavlja nematerialni prispevek,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vpisan v vpisnik prostovoljskih organizacij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, ki ga vodi AJ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Kot nematerialni prispevek je upravičeno uveljavljati le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ovrednotene stroške prostovoljnega dela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ZoneTexte 8"/>
          <p:cNvSpPr/>
          <p:nvPr/>
        </p:nvSpPr>
        <p:spPr>
          <a:xfrm>
            <a:off x="1044720" y="103320"/>
            <a:ext cx="5849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Nematerialni prispeve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(in-kin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Slika 3" descr=""/>
          <p:cNvPicPr/>
          <p:nvPr/>
        </p:nvPicPr>
        <p:blipFill>
          <a:blip r:embed="rId1"/>
          <a:stretch/>
        </p:blipFill>
        <p:spPr>
          <a:xfrm>
            <a:off x="6194520" y="4626000"/>
            <a:ext cx="3736800" cy="2016000"/>
          </a:xfrm>
          <a:prstGeom prst="rect">
            <a:avLst/>
          </a:prstGeom>
          <a:ln w="0">
            <a:noFill/>
          </a:ln>
        </p:spPr>
      </p:pic>
      <p:sp>
        <p:nvSpPr>
          <p:cNvPr id="988" name="ZoneTexte 8"/>
          <p:cNvSpPr/>
          <p:nvPr/>
        </p:nvSpPr>
        <p:spPr>
          <a:xfrm>
            <a:off x="1047600" y="3998880"/>
            <a:ext cx="47246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rostovoljno delo mora potekati v skladu z veljavno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nacionalno zakonodajo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(SLO: Zakon o prostovoljstvu, Pravilnik o področjih prostovoljnega dela in vpisnik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ZoneTexte 8"/>
          <p:cNvSpPr/>
          <p:nvPr/>
        </p:nvSpPr>
        <p:spPr>
          <a:xfrm>
            <a:off x="1044720" y="5022720"/>
            <a:ext cx="90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Majhne sprememb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manjše prerazporeditve sredstev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v FN med posameznimi postavkami (po kategorijah izdatkov in DS), ki znašajo </a:t>
            </a:r>
            <a:r>
              <a:rPr b="0" i="1" lang="pl-PL" sz="2000" spc="-1" strike="noStrike">
                <a:solidFill>
                  <a:srgbClr val="404040"/>
                </a:solidFill>
                <a:latin typeface="Verdana"/>
              </a:rPr>
              <a:t>kumulativno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manj kot 20%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skupnih upravičenih stroškov projekta (iz zadnje veljavne verzije NIP-a) </a:t>
            </a:r>
            <a:r>
              <a:rPr b="0" i="1" lang="pl-PL" sz="2000" spc="-1" strike="noStrike">
                <a:solidFill>
                  <a:srgbClr val="404040"/>
                </a:solidFill>
                <a:latin typeface="Verdana"/>
              </a:rPr>
              <a:t>ali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manj kot 300.000 €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(upošteva se strožja omejite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Spremembe projek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ZoneTexte 8"/>
          <p:cNvSpPr/>
          <p:nvPr/>
        </p:nvSpPr>
        <p:spPr>
          <a:xfrm>
            <a:off x="1044720" y="1433520"/>
            <a:ext cx="9024840" cy="33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Vrste spremem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majhne spremem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velike spremem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42720"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Prošnjo za veliko/e spremembo/e odobri nosilec programa praviloma le </a:t>
            </a:r>
            <a:r>
              <a:rPr b="1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enkrat oz. </a:t>
            </a: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v izjemnih primerih</a:t>
            </a:r>
            <a:r>
              <a:rPr b="1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 največ dvakrat </a:t>
            </a: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v obdobju trajanja projekta. Omejitev ne velja za spremembe opr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42720"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Za veliko spremembo lahko nosilec projekta zaprosi </a:t>
            </a:r>
            <a:r>
              <a:rPr b="1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najpozneje 6 mesecev pred zaključkom</a:t>
            </a: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 obdobja trajanja projek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Sprememba velja od datuma oddaje prošnje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za spremem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Spremembe projek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ZoneTexte 8"/>
          <p:cNvSpPr/>
          <p:nvPr/>
        </p:nvSpPr>
        <p:spPr>
          <a:xfrm>
            <a:off x="1044720" y="1558800"/>
            <a:ext cx="9163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Postopek (majhna sprememb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osilec projekta po e-pošti nosilcu programa (skrbniku pogodbe) posreduje </a:t>
            </a:r>
            <a:r>
              <a:rPr b="1" i="1" lang="pl-PL" sz="2000" spc="-1" strike="noStrike">
                <a:solidFill>
                  <a:srgbClr val="404040"/>
                </a:solidFill>
                <a:latin typeface="Verdana"/>
              </a:rPr>
              <a:t>prošnjo za spremembo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, ki vključu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42720"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izpolnjen obrazec „Prošnja za spremembo projekta” (priloga 4 k Navodilom) v dveh verzijah: skeniran podpisan in žigosan dokument ter osnovni izpolnjen obrazec v Excel obl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42720"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nov NIP v sledi spremembah (če je spremenj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42720"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nov Finančni načrt po partnerjih v Excel obliki (priloga 2 k S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42720">
              <a:lnSpc>
                <a:spcPct val="100000"/>
              </a:lnSpc>
              <a:spcAft>
                <a:spcPts val="2001"/>
              </a:spcAft>
              <a:buClr>
                <a:srgbClr val="404040"/>
              </a:buClr>
              <a:buFont typeface="Verdana"/>
              <a:buChar char="-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izjava partnerja, ki se ga sprememba dotika, da soglaša s spreme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01"/>
              </a:spcAft>
              <a:buClr>
                <a:srgbClr val="404040"/>
              </a:buClr>
              <a:buFont typeface="Verdana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osilec programa preveri, ali so predlagane majhne spremembe v skladu s programskimi pravi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404040"/>
              </a:buClr>
              <a:buFont typeface="Verdana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osilec programa po e-pošti obvesti nosilca projekta, da je seznanjen z majhno spremembo </a:t>
            </a:r>
            <a:r>
              <a:rPr b="0" i="1" lang="pl-PL" sz="2000" spc="-1" strike="noStrike">
                <a:solidFill>
                  <a:srgbClr val="404040"/>
                </a:solidFill>
                <a:latin typeface="Verdana"/>
              </a:rPr>
              <a:t>ali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zavrne prošnjo za spremembo (v primeru, da spremembe niso v skladu s programskimi pravi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ZoneTexte 8"/>
          <p:cNvSpPr/>
          <p:nvPr/>
        </p:nvSpPr>
        <p:spPr>
          <a:xfrm>
            <a:off x="1044720" y="1558800"/>
            <a:ext cx="90248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Velike spremembe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, dopustne le v izjemnih in dobro utemeljenih primeri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premembe sestave partnerstva: odstop ali zamenjava partnerja; sprememba nosilca projekta ni dovolj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premembe dejavnosti, rezultatov in/ali kazalnikov rezultatov projek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rerazporeditev sredstev med kategorijami izdatkov in/ali DS, ki so kumulativno enake ali presegajo 20% skupnih upravičenih stroškov projekta oz. 300.000 € (upošteva se strožja omejite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rerazporeditev finančnih sredstev med partnerji / N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premembe opre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odobritev izvedbe projektne dejavnosti izven upravičenega območja programa, ki ni navedena v veljavnem N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Spremembe projek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Spremembe projek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ZoneTexte 8"/>
          <p:cNvSpPr/>
          <p:nvPr/>
        </p:nvSpPr>
        <p:spPr>
          <a:xfrm>
            <a:off x="1044720" y="1558800"/>
            <a:ext cx="916308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Postopek (velika sprememb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osilec projekta po e-pošti nosilcu programa (skrbniku pogodbe) posreduje </a:t>
            </a:r>
            <a:r>
              <a:rPr b="1" i="1" lang="pl-PL" sz="2000" spc="-1" strike="noStrike">
                <a:solidFill>
                  <a:srgbClr val="404040"/>
                </a:solidFill>
                <a:latin typeface="Verdana"/>
              </a:rPr>
              <a:t>prošnjo za spremembo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, ki vključu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17440"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izpolnjen obrazec „Prošnja za spremembo projekta” (priloga 4 k Navodilom) v dveh verzijah: skeniran podpisan in žigosan dokument ter osnovni izpolnjen obrazec v Excel obl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17440"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nov NIP v sledi spremembah (če je spremenj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17440"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nov Finančni načrt po partnerjih v Excel obliki (če je spremenj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17440"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izjava partnerja, ki se ga sprememba dotika, da soglaša s spreme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17440">
              <a:lnSpc>
                <a:spcPct val="100000"/>
              </a:lnSpc>
              <a:spcAft>
                <a:spcPts val="2001"/>
              </a:spcAft>
              <a:buClr>
                <a:srgbClr val="404040"/>
              </a:buClr>
              <a:buFont typeface="Verdana"/>
              <a:buChar char="-"/>
              <a:tabLst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pl-PL" sz="1800" spc="-1" strike="noStrike">
                <a:solidFill>
                  <a:srgbClr val="404040"/>
                </a:solidFill>
                <a:latin typeface="Verdana"/>
                <a:ea typeface="Arial"/>
              </a:rPr>
              <a:t>druge dokumente v primeru spremembe partnerstva (Navodila, p. 3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osilec programa odloči o prošnji. Svojo odločitev posreduje pisno po e-poš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404040"/>
              </a:buClr>
              <a:buFont typeface="Verdana"/>
              <a:buAutoNum type="arabicPeriod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klene se ustrezne dodatke k Pogodbi o projektu in/ali SoP (v kolikor je to potrebn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ZoneTexte 8"/>
          <p:cNvSpPr/>
          <p:nvPr/>
        </p:nvSpPr>
        <p:spPr>
          <a:xfrm>
            <a:off x="1044720" y="1558800"/>
            <a:ext cx="902484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Spremembe, ki niso dopustne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prememba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nosilca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prememba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ciljev in/ali učinkov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prememba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časovnega načrta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odaljšanje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obdobja trajanja projekta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o 30. 4. 2016, razen če odločevalsko telo FM podaljša obdobje upravičenosti izdatkov projekta, vendar najdlje do 30. 4.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prememba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deležev virov sofinanci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prememba odobrenega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najvišjega skupnega zneska in stopnje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osrednih administrativnih stroškov, izračunanih po metodi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pavš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prememba, ki bi bila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neskladna s programskimi omejitvami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: npr. strošek nakupa nove opreme ne sme presegati 30% skupnih upravičenih stroškov projekta (velja za Program N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Spremembe projek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ZoneTexte 8"/>
          <p:cNvSpPr/>
          <p:nvPr/>
        </p:nvSpPr>
        <p:spPr>
          <a:xfrm>
            <a:off x="1044720" y="1608120"/>
            <a:ext cx="9048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osilci projektov in partnerji so dolžni aktivno promovirati dejavnosti in rezultate projektov čim širši jav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Načrt informiranja in obveščanja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(del NIP-a), ki vključuje vs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cilje in ciljne sku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ukrepe informiranja in obveščanja z navedbo dejavnosti, komunikacijskih orodij in časov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vsaj 3 informacijske dejavnosti oz. za projekte, ki prejmejo manj kot 500.000,00 EUR NS vsaj 2 informacijski deja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ukrepe in vsebine informiranja in obveščanja preko spletne st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odgovorno institucijo in kontaktno osebo za izvajanje ukrepov informiranja in obvešč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ačine vrednotenja prepoznavnosti in ozaveščenosti o projektu in FM, o ciljih in učinkih projekta ter o vlogi držav donator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Informiranje in obvešč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ZoneTexte 8"/>
          <p:cNvSpPr/>
          <p:nvPr/>
        </p:nvSpPr>
        <p:spPr>
          <a:xfrm>
            <a:off x="1044720" y="1608120"/>
            <a:ext cx="63277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Informiranje in obveščanje javnosti se izvaja v skladu z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Načrtom informiranja in obveščanja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(del NIP-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Prilogo 4 k Uredbi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: Zahteve informiranja in obveščanja  (</a:t>
            </a:r>
            <a:r>
              <a:rPr b="0" i="1" lang="pl-PL" sz="2000" spc="-1" strike="noStrike">
                <a:solidFill>
                  <a:srgbClr val="404040"/>
                </a:solidFill>
                <a:latin typeface="Verdana"/>
              </a:rPr>
              <a:t>Information and Publicity Requirements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Priročnikom za sporazumevanje in oblikovanje 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(</a:t>
            </a:r>
            <a:r>
              <a:rPr b="0" i="1" lang="pl-PL" sz="2000" spc="-1" strike="noStrike">
                <a:solidFill>
                  <a:srgbClr val="404040"/>
                </a:solidFill>
                <a:latin typeface="Verdana"/>
              </a:rPr>
              <a:t>Communication and Design Manual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Informiranje in obvešč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Picture 2" descr=""/>
          <p:cNvPicPr/>
          <p:nvPr/>
        </p:nvPicPr>
        <p:blipFill>
          <a:blip r:embed="rId1"/>
          <a:stretch/>
        </p:blipFill>
        <p:spPr>
          <a:xfrm>
            <a:off x="8047080" y="1496880"/>
            <a:ext cx="1935000" cy="2675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3" descr=""/>
          <p:cNvPicPr/>
          <p:nvPr/>
        </p:nvPicPr>
        <p:blipFill>
          <a:blip r:embed="rId2"/>
          <a:stretch/>
        </p:blipFill>
        <p:spPr>
          <a:xfrm>
            <a:off x="8047080" y="4294080"/>
            <a:ext cx="1935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ZoneTexte 8"/>
          <p:cNvSpPr/>
          <p:nvPr/>
        </p:nvSpPr>
        <p:spPr>
          <a:xfrm>
            <a:off x="1044720" y="1608120"/>
            <a:ext cx="90486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Ključne zaht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Eksplicitna in jasno razvidna informacija o finančni podpori FM -  vsak material mora vključevati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2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obvezna logotipa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Informiranje in obvešč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ZoneTexte 8"/>
          <p:cNvSpPr/>
          <p:nvPr/>
        </p:nvSpPr>
        <p:spPr>
          <a:xfrm>
            <a:off x="1036800" y="3110040"/>
            <a:ext cx="4532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53880" indent="-3538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1800" spc="-1" strike="noStrike">
                <a:solidFill>
                  <a:srgbClr val="404040"/>
                </a:solidFill>
                <a:latin typeface="Verdana"/>
              </a:rPr>
              <a:t>1.</a:t>
            </a:r>
            <a:r>
              <a:rPr b="1" lang="pl-PL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1" lang="pl-PL" sz="1800" spc="-1" strike="noStrike">
                <a:solidFill>
                  <a:srgbClr val="404040"/>
                </a:solidFill>
                <a:latin typeface="Verdana"/>
              </a:rPr>
              <a:t>Logotip NOR FM </a:t>
            </a:r>
            <a:r>
              <a:rPr b="1" i="1" lang="pl-PL" sz="1800" spc="-1" strike="noStrike">
                <a:solidFill>
                  <a:srgbClr val="404040"/>
                </a:solidFill>
                <a:latin typeface="Verdana"/>
              </a:rPr>
              <a:t>ali</a:t>
            </a:r>
            <a:r>
              <a:rPr b="1" lang="pl-PL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1" lang="pl-PL" sz="1800" spc="-1" strike="noStrike">
                <a:solidFill>
                  <a:srgbClr val="404040"/>
                </a:solidFill>
                <a:latin typeface="Verdana"/>
              </a:rPr>
              <a:t>logotip FM E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pl-PL" sz="1400" spc="-1" strike="noStrike">
                <a:solidFill>
                  <a:srgbClr val="7f7f7f"/>
                </a:solidFill>
                <a:latin typeface="Verdana"/>
              </a:rPr>
              <a:t>http://eeagrants.org/Results-data/Results-overview/Documents/Lo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Slika 1" descr=""/>
          <p:cNvPicPr/>
          <p:nvPr/>
        </p:nvPicPr>
        <p:blipFill>
          <a:blip r:embed="rId1"/>
          <a:stretch/>
        </p:blipFill>
        <p:spPr>
          <a:xfrm>
            <a:off x="933480" y="4248000"/>
            <a:ext cx="1981080" cy="1979640"/>
          </a:xfrm>
          <a:prstGeom prst="rect">
            <a:avLst/>
          </a:prstGeom>
          <a:ln w="0">
            <a:noFill/>
          </a:ln>
        </p:spPr>
      </p:pic>
      <p:pic>
        <p:nvPicPr>
          <p:cNvPr id="1010" name="Slika 2" descr=""/>
          <p:cNvPicPr/>
          <p:nvPr/>
        </p:nvPicPr>
        <p:blipFill>
          <a:blip r:embed="rId2"/>
          <a:stretch/>
        </p:blipFill>
        <p:spPr>
          <a:xfrm>
            <a:off x="2917800" y="424800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011" name="ZoneTexte 8"/>
          <p:cNvSpPr/>
          <p:nvPr/>
        </p:nvSpPr>
        <p:spPr>
          <a:xfrm>
            <a:off x="5653080" y="3110040"/>
            <a:ext cx="45306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53880" indent="-3538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1800" spc="-1" strike="noStrike">
                <a:solidFill>
                  <a:srgbClr val="404040"/>
                </a:solidFill>
                <a:latin typeface="Verdana"/>
              </a:rPr>
              <a:t>2.</a:t>
            </a:r>
            <a:r>
              <a:rPr b="1" lang="pl-PL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1" lang="pl-PL" sz="1800" spc="-1" strike="noStrike">
                <a:solidFill>
                  <a:srgbClr val="404040"/>
                </a:solidFill>
                <a:latin typeface="Verdana"/>
              </a:rPr>
              <a:t>Logotip nosilca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1" lang="pl-PL" sz="1800" spc="-1" strike="noStrike">
                <a:solidFill>
                  <a:srgbClr val="404040"/>
                </a:solidFill>
                <a:latin typeface="Verdana"/>
              </a:rPr>
              <a:t>(SV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pl-PL" sz="1400" spc="-1" strike="noStrike">
                <a:solidFill>
                  <a:srgbClr val="7f7f7f"/>
                </a:solidFill>
                <a:latin typeface="Verdana"/>
              </a:rPr>
              <a:t>http://www.svrk.gov.si/si/o_sluzb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Slika 6" descr=""/>
          <p:cNvPicPr/>
          <p:nvPr/>
        </p:nvPicPr>
        <p:blipFill>
          <a:blip r:embed="rId3"/>
          <a:stretch/>
        </p:blipFill>
        <p:spPr>
          <a:xfrm>
            <a:off x="5697360" y="4946760"/>
            <a:ext cx="4321440" cy="766800"/>
          </a:xfrm>
          <a:prstGeom prst="rect">
            <a:avLst/>
          </a:prstGeom>
          <a:ln w="0">
            <a:noFill/>
          </a:ln>
        </p:spPr>
      </p:pic>
      <p:grpSp>
        <p:nvGrpSpPr>
          <p:cNvPr id="1013" name="Skupina 11"/>
          <p:cNvGrpSpPr/>
          <p:nvPr/>
        </p:nvGrpSpPr>
        <p:grpSpPr>
          <a:xfrm>
            <a:off x="934920" y="5938920"/>
            <a:ext cx="2036880" cy="504720"/>
            <a:chOff x="934920" y="5938920"/>
            <a:chExt cx="2036880" cy="504720"/>
          </a:xfrm>
        </p:grpSpPr>
        <p:sp>
          <p:nvSpPr>
            <p:cNvPr id="1014" name="Zaklepaj 12"/>
            <p:cNvSpPr/>
            <p:nvPr/>
          </p:nvSpPr>
          <p:spPr>
            <a:xfrm rot="5400000">
              <a:off x="1863360" y="5317920"/>
              <a:ext cx="137880" cy="1379520"/>
            </a:xfrm>
            <a:custGeom>
              <a:avLst/>
              <a:gdLst>
                <a:gd name="textAreaLeft" fmla="*/ 0 w 137880"/>
                <a:gd name="textAreaRight" fmla="*/ 96840 w 137880"/>
                <a:gd name="textAreaTop" fmla="*/ 4680 h 1379520"/>
                <a:gd name="textAreaBottom" fmla="*/ 1374840 h 137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78"/>
                    <a:pt x="21600" y="155"/>
                  </a:cubicBezTo>
                  <a:lnTo>
                    <a:pt x="21600" y="21445"/>
                  </a:lnTo>
                  <a:cubicBezTo>
                    <a:pt x="21600" y="21523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57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Content Placeholder 1"/>
            <p:cNvSpPr/>
            <p:nvPr/>
          </p:nvSpPr>
          <p:spPr>
            <a:xfrm>
              <a:off x="934920" y="6122520"/>
              <a:ext cx="203688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 algn="ctr"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5793"/>
                  </a:solidFill>
                  <a:latin typeface="Arial"/>
                </a:rPr>
                <a:t>min 15 m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ZoneTexte 8"/>
          <p:cNvSpPr/>
          <p:nvPr/>
        </p:nvSpPr>
        <p:spPr>
          <a:xfrm>
            <a:off x="1025640" y="6629400"/>
            <a:ext cx="90486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Izjema: na manjšem promocijskem materialu dovolj le logotip F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ZoneTexte 8"/>
          <p:cNvSpPr/>
          <p:nvPr/>
        </p:nvSpPr>
        <p:spPr>
          <a:xfrm>
            <a:off x="1044720" y="1765440"/>
            <a:ext cx="81406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Uredba o izvajanju NOR/EGP FM s prilog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Memorandum o soglasju za izvajanje NOR/EGP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porazum o NOR/EGP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avodila za izvajanje projektov in poroč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ogodba o projektu (z NIP-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Sporazum o partnerst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acionalna/regionalna/lokalna/institucionalna zakonodaja (npr. javno naročanje, državne pomoči, gradnja objekt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Ključni dokume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ravokotnik 1"/>
          <p:cNvSpPr/>
          <p:nvPr/>
        </p:nvSpPr>
        <p:spPr>
          <a:xfrm>
            <a:off x="914400" y="3598920"/>
            <a:ext cx="8271000" cy="1168200"/>
          </a:xfrm>
          <a:prstGeom prst="rect">
            <a:avLst/>
          </a:prstGeom>
          <a:noFill/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ZoneTexte 8"/>
          <p:cNvSpPr/>
          <p:nvPr/>
        </p:nvSpPr>
        <p:spPr>
          <a:xfrm>
            <a:off x="1044720" y="1482840"/>
            <a:ext cx="8591400" cy="52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Zaželeno je navesti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povezave na spletne strani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(obvezno na spletnih straneh!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finančnega mehaniz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norwaygrants.org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i="1" lang="pl-PL" sz="2000" spc="-1" strike="noStrike">
                <a:solidFill>
                  <a:srgbClr val="404040"/>
                </a:solidFill>
                <a:latin typeface="Verdana"/>
              </a:rPr>
              <a:t>ali </a:t>
            </a:r>
            <a:r>
              <a:rPr b="0" i="1" lang="pl-PL" sz="20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eeagrant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rogra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www.norwaygrants.si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ali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www.eeagrants.si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osilca progra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www.svrk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Zaželeno je navesti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izjavo o omejitvi odgovornosti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pl-PL" sz="1800" spc="-1" strike="noStrike">
                <a:solidFill>
                  <a:srgbClr val="404040"/>
                </a:solidFill>
                <a:latin typeface="Verdana"/>
              </a:rPr>
              <a:t>»Ta [dokument/spletna stran/itd.] je nastal s finančno podporo [Norveškega finančnega mehanizma/Finančnega mehanizma EGP]. Za vsebino tega [dokumenta/spletne strani/itd.] je odgovoren izključno [ime upravičenca] in zanj v nobenem primeru ne velja, da odraža stališča Nosilca [Programa Norveškega finančnega mehanizma/Programa Finančnega mehanizma EGP].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Informiranje in obvešč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ZoneTexte 8"/>
          <p:cNvSpPr/>
          <p:nvPr/>
        </p:nvSpPr>
        <p:spPr>
          <a:xfrm>
            <a:off x="1044720" y="1608120"/>
            <a:ext cx="9048600" cy="46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Oglasna deska in razlagalna tab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Oglasna deska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(ali gradbiščna tabla) mora biti nameščena med izvajanjem vsake projektne dejavnosti na vidnem mestu njenega izvajanja, č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dejavnost vključuje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financiranje fizičnega objekta, infrastrukture ali gradnje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epovratna sredstva financiranja dejavnosti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presegajo 50.000 €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Najpozneje šest mesecev po zaključku projekta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mora nosilec projekta desko oz. tablo nadomestiti s trajno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 razlagalno tablo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, ki je opazna, dovolj velika in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skladna s </a:t>
            </a:r>
            <a:r>
              <a:rPr b="0" i="1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Priročnikom za sporazumevanje in oblikovanje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. Dodatne vsebinske, tehnične in oblikovne zahteve določajo ustrezni nacionalni zakonski in podzakonski ak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Informiranje in obvešč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ZoneTexte 8"/>
          <p:cNvSpPr/>
          <p:nvPr/>
        </p:nvSpPr>
        <p:spPr>
          <a:xfrm>
            <a:off x="1044720" y="1608120"/>
            <a:ext cx="904860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Spletna stran 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osebno spletno mesto ali posebna spletna stran že obstoječega spletnega me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v slovenskem jeziku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in v primeru, da je projekt upravičen do 150.000 EUR ali več nepovratnih sredstev in/ali v njem sodeluje partner iz države donatorice,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tudi v angleškem jez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obvezna logotipa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(FM in nosilca progra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informacije o projektu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, njegovem napredku, dosežkih in rezultatih, o sodelovanju z institucijami iz držav(e) donatoric(e), fotografije, kontaktne podatke ter jasen sklic na program in 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obvezne povezave na vse 3 spletne strani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(FM, programa in nosilca programa), priporočljivo preko logotip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zaželena </a:t>
            </a:r>
            <a:r>
              <a:rPr b="0" lang="pl-PL" sz="2000" spc="-1" strike="noStrike" u="sng">
                <a:solidFill>
                  <a:srgbClr val="404040"/>
                </a:solidFill>
                <a:uFillTx/>
                <a:latin typeface="Verdana"/>
              </a:rPr>
              <a:t>izjava o omejitvi odgovor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Informiranje in obvešč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ZoneTexte 8"/>
          <p:cNvSpPr/>
          <p:nvPr/>
        </p:nvSpPr>
        <p:spPr>
          <a:xfrm>
            <a:off x="1044720" y="1550880"/>
            <a:ext cx="9048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Informativni in promocijski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material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: vsaj 2 kosa/izvoda priložiti k vmesnemu poročilu (v kolikor je to tehnično izvedlji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Dogodek 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za javnost: sprotno in pravočasno obveščanje nosilca programa (skrbnika pogodbe) o dogodkih. Zaželen tudi predlog kratke najave oz. novice o dogodku za morebitno objavo na spletni strani programa in/ali FB strani progr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Informiranje in obvešč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Slika 1" descr=""/>
          <p:cNvPicPr/>
          <p:nvPr/>
        </p:nvPicPr>
        <p:blipFill>
          <a:blip r:embed="rId1"/>
          <a:stretch/>
        </p:blipFill>
        <p:spPr>
          <a:xfrm>
            <a:off x="5664240" y="3865680"/>
            <a:ext cx="3800520" cy="3197160"/>
          </a:xfrm>
          <a:prstGeom prst="rect">
            <a:avLst/>
          </a:prstGeom>
          <a:ln w="6480">
            <a:solidFill>
              <a:srgbClr val="eeece1"/>
            </a:solidFill>
            <a:miter/>
          </a:ln>
        </p:spPr>
      </p:pic>
      <p:pic>
        <p:nvPicPr>
          <p:cNvPr id="1026" name="Slika 3" descr=""/>
          <p:cNvPicPr/>
          <p:nvPr/>
        </p:nvPicPr>
        <p:blipFill>
          <a:blip r:embed="rId2"/>
          <a:stretch/>
        </p:blipFill>
        <p:spPr>
          <a:xfrm>
            <a:off x="1531800" y="3865680"/>
            <a:ext cx="36975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6276600" y="2624040"/>
            <a:ext cx="2714760" cy="295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000" spc="-1" strike="noStrike">
                <a:solidFill>
                  <a:srgbClr val="4f81bd"/>
                </a:solidFill>
                <a:latin typeface="Arial"/>
                <a:ea typeface="Verdana"/>
              </a:rPr>
              <a:t>ŽELIMO VAM USPEŠNO SODELOVANJE IN IZVEDBO PROJEKTA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8" name="Picture 3" descr="Sodelovanje-slika"/>
          <p:cNvPicPr/>
          <p:nvPr/>
        </p:nvPicPr>
        <p:blipFill>
          <a:blip r:embed="rId1"/>
          <a:stretch/>
        </p:blipFill>
        <p:spPr>
          <a:xfrm>
            <a:off x="1500120" y="2276640"/>
            <a:ext cx="41720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ZoneTexte 8"/>
          <p:cNvSpPr/>
          <p:nvPr/>
        </p:nvSpPr>
        <p:spPr>
          <a:xfrm>
            <a:off x="1044720" y="103320"/>
            <a:ext cx="5849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Pravna podlag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na ravni projek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Skupina 5"/>
          <p:cNvGrpSpPr/>
          <p:nvPr/>
        </p:nvGrpSpPr>
        <p:grpSpPr>
          <a:xfrm>
            <a:off x="1063800" y="4064040"/>
            <a:ext cx="5364000" cy="374040"/>
            <a:chOff x="1063800" y="4064040"/>
            <a:chExt cx="5364000" cy="374040"/>
          </a:xfrm>
        </p:grpSpPr>
        <p:sp>
          <p:nvSpPr>
            <p:cNvPr id="935" name="Pravokotnik 6"/>
            <p:cNvSpPr/>
            <p:nvPr/>
          </p:nvSpPr>
          <p:spPr>
            <a:xfrm>
              <a:off x="2395440" y="4064040"/>
              <a:ext cx="2700360" cy="358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PoljeZBesedilom 7"/>
            <p:cNvSpPr/>
            <p:nvPr/>
          </p:nvSpPr>
          <p:spPr>
            <a:xfrm>
              <a:off x="1063800" y="4069800"/>
              <a:ext cx="53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OSILEC PROJEK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Skupina 14"/>
          <p:cNvGrpSpPr/>
          <p:nvPr/>
        </p:nvGrpSpPr>
        <p:grpSpPr>
          <a:xfrm>
            <a:off x="415800" y="5778360"/>
            <a:ext cx="6480360" cy="370080"/>
            <a:chOff x="415800" y="5778360"/>
            <a:chExt cx="6480360" cy="370080"/>
          </a:xfrm>
        </p:grpSpPr>
        <p:sp>
          <p:nvSpPr>
            <p:cNvPr id="938" name="Pravokotnik 15"/>
            <p:cNvSpPr/>
            <p:nvPr/>
          </p:nvSpPr>
          <p:spPr>
            <a:xfrm>
              <a:off x="5384880" y="5787720"/>
              <a:ext cx="1511280" cy="360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Pravokotnik 16"/>
            <p:cNvSpPr/>
            <p:nvPr/>
          </p:nvSpPr>
          <p:spPr>
            <a:xfrm>
              <a:off x="3727440" y="5778360"/>
              <a:ext cx="1512720" cy="360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Pravokotnik 17"/>
            <p:cNvSpPr/>
            <p:nvPr/>
          </p:nvSpPr>
          <p:spPr>
            <a:xfrm>
              <a:off x="2071440" y="5778360"/>
              <a:ext cx="1512720" cy="360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Pravokotnik 18"/>
            <p:cNvSpPr/>
            <p:nvPr/>
          </p:nvSpPr>
          <p:spPr>
            <a:xfrm>
              <a:off x="415800" y="5778360"/>
              <a:ext cx="1511280" cy="360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PoljeZBesedilom 19"/>
            <p:cNvSpPr/>
            <p:nvPr/>
          </p:nvSpPr>
          <p:spPr>
            <a:xfrm>
              <a:off x="415800" y="5778360"/>
              <a:ext cx="15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ARTNER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PoljeZBesedilom 20"/>
            <p:cNvSpPr/>
            <p:nvPr/>
          </p:nvSpPr>
          <p:spPr>
            <a:xfrm>
              <a:off x="3728160" y="5778360"/>
              <a:ext cx="15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ARTNER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PoljeZBesedilom 21"/>
            <p:cNvSpPr/>
            <p:nvPr/>
          </p:nvSpPr>
          <p:spPr>
            <a:xfrm>
              <a:off x="5384160" y="5778360"/>
              <a:ext cx="15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ARTNER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PoljeZBesedilom 22"/>
            <p:cNvSpPr/>
            <p:nvPr/>
          </p:nvSpPr>
          <p:spPr>
            <a:xfrm>
              <a:off x="2071800" y="5778360"/>
              <a:ext cx="15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ARTNER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Skupina 25"/>
          <p:cNvGrpSpPr/>
          <p:nvPr/>
        </p:nvGrpSpPr>
        <p:grpSpPr>
          <a:xfrm>
            <a:off x="1063800" y="2821680"/>
            <a:ext cx="5364000" cy="1142280"/>
            <a:chOff x="1063800" y="2821680"/>
            <a:chExt cx="5364000" cy="1142280"/>
          </a:xfrm>
        </p:grpSpPr>
        <p:cxnSp>
          <p:nvCxnSpPr>
            <p:cNvPr id="947" name="Raven puščični konektor 46"/>
            <p:cNvCxnSpPr/>
            <p:nvPr/>
          </p:nvCxnSpPr>
          <p:spPr>
            <a:xfrm flipH="1">
              <a:off x="3727080" y="3603240"/>
              <a:ext cx="2160" cy="36108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948" name="PoljeZBesedilom 27"/>
            <p:cNvSpPr/>
            <p:nvPr/>
          </p:nvSpPr>
          <p:spPr>
            <a:xfrm>
              <a:off x="1063800" y="3174840"/>
              <a:ext cx="53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sl-SI" sz="2400" spc="-1" strike="noStrike">
                  <a:solidFill>
                    <a:srgbClr val="4f81bd"/>
                  </a:solidFill>
                  <a:latin typeface="Arial"/>
                </a:rPr>
                <a:t>Pogodba o projektu (z NI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9" name="Raven puščični konektor 42"/>
            <p:cNvCxnSpPr/>
            <p:nvPr/>
          </p:nvCxnSpPr>
          <p:spPr>
            <a:xfrm flipV="1">
              <a:off x="3727440" y="2821680"/>
              <a:ext cx="2160" cy="36108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950" name="Zaobljeni pravokotnik 29"/>
            <p:cNvSpPr/>
            <p:nvPr/>
          </p:nvSpPr>
          <p:spPr>
            <a:xfrm>
              <a:off x="1063800" y="3184200"/>
              <a:ext cx="5364000" cy="431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Skupina 30"/>
          <p:cNvGrpSpPr/>
          <p:nvPr/>
        </p:nvGrpSpPr>
        <p:grpSpPr>
          <a:xfrm>
            <a:off x="1063800" y="4500000"/>
            <a:ext cx="5364000" cy="1154520"/>
            <a:chOff x="1063800" y="4500000"/>
            <a:chExt cx="5364000" cy="1154520"/>
          </a:xfrm>
        </p:grpSpPr>
        <p:sp>
          <p:nvSpPr>
            <p:cNvPr id="952" name="PoljeZBesedilom 31"/>
            <p:cNvSpPr/>
            <p:nvPr/>
          </p:nvSpPr>
          <p:spPr>
            <a:xfrm>
              <a:off x="1063800" y="4851000"/>
              <a:ext cx="53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sl-SI" sz="2400" spc="-1" strike="noStrike">
                  <a:solidFill>
                    <a:srgbClr val="4f81bd"/>
                  </a:solidFill>
                  <a:latin typeface="Arial"/>
                </a:rPr>
                <a:t>Sporazum o partnerstv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Zaobljeni pravokotnik 32"/>
            <p:cNvSpPr/>
            <p:nvPr/>
          </p:nvSpPr>
          <p:spPr>
            <a:xfrm>
              <a:off x="1063800" y="4861080"/>
              <a:ext cx="5364000" cy="431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4" name="Raven puščični konektor 51"/>
            <p:cNvCxnSpPr/>
            <p:nvPr/>
          </p:nvCxnSpPr>
          <p:spPr>
            <a:xfrm flipH="1">
              <a:off x="1206000" y="5293800"/>
              <a:ext cx="2160" cy="36108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955" name="Raven puščični konektor 53"/>
            <p:cNvCxnSpPr/>
            <p:nvPr/>
          </p:nvCxnSpPr>
          <p:spPr>
            <a:xfrm flipH="1">
              <a:off x="2863440" y="5293800"/>
              <a:ext cx="2160" cy="36108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956" name="Raven puščični konektor 54"/>
            <p:cNvCxnSpPr/>
            <p:nvPr/>
          </p:nvCxnSpPr>
          <p:spPr>
            <a:xfrm flipH="1">
              <a:off x="4519440" y="5293800"/>
              <a:ext cx="2160" cy="36108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957" name="Raven puščični konektor 55"/>
            <p:cNvCxnSpPr/>
            <p:nvPr/>
          </p:nvCxnSpPr>
          <p:spPr>
            <a:xfrm flipH="1">
              <a:off x="6176880" y="5293800"/>
              <a:ext cx="2160" cy="36108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958" name="Raven puščični konektor 57"/>
            <p:cNvCxnSpPr/>
            <p:nvPr/>
          </p:nvCxnSpPr>
          <p:spPr>
            <a:xfrm flipH="1" flipV="1">
              <a:off x="3727080" y="4500000"/>
              <a:ext cx="2160" cy="36108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959" name="PoljeZBesedilom 43"/>
          <p:cNvSpPr/>
          <p:nvPr/>
        </p:nvSpPr>
        <p:spPr>
          <a:xfrm>
            <a:off x="6850080" y="3240000"/>
            <a:ext cx="334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1800" spc="-1" strike="noStrike">
                <a:solidFill>
                  <a:srgbClr val="4f81bd"/>
                </a:solidFill>
                <a:latin typeface="Arial"/>
              </a:rPr>
              <a:t>N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1800" spc="-1" strike="noStrike">
                <a:solidFill>
                  <a:srgbClr val="4f81bd"/>
                </a:solidFill>
                <a:latin typeface="Arial"/>
              </a:rPr>
              <a:t>= skladen s potrjeno prijav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1800" spc="-1" strike="noStrike">
                <a:solidFill>
                  <a:srgbClr val="4f81bd"/>
                </a:solidFill>
                <a:latin typeface="Arial"/>
              </a:rPr>
              <a:t>= potrdila izbirna komisi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ravokotnik 45"/>
          <p:cNvSpPr/>
          <p:nvPr/>
        </p:nvSpPr>
        <p:spPr>
          <a:xfrm>
            <a:off x="2386080" y="1989000"/>
            <a:ext cx="2700360" cy="681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oljeZBesedilom 46"/>
          <p:cNvSpPr/>
          <p:nvPr/>
        </p:nvSpPr>
        <p:spPr>
          <a:xfrm>
            <a:off x="1063800" y="199548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NOSILEC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(SV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ZoneTexte 8"/>
          <p:cNvSpPr/>
          <p:nvPr/>
        </p:nvSpPr>
        <p:spPr>
          <a:xfrm>
            <a:off x="1044720" y="1986120"/>
            <a:ext cx="8140680" cy="34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Pravilna, kakovostna in pravočasna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izvedba celotnega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izvajanje projekta mora potekati v skladu z NIP (delovni načrt, časovni načrt, finančni nač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sl-SI" sz="2000" spc="-1" strike="noStrike">
                <a:solidFill>
                  <a:srgbClr val="404040"/>
                </a:solidFill>
                <a:latin typeface="Verdana"/>
              </a:rPr>
              <a:t>v primeru težav/zamud (celotnega projekta) nosilec projekta o tem obvesti nosilc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osilec projekta r</a:t>
            </a:r>
            <a:r>
              <a:rPr b="0" lang="sl-SI" sz="2000" spc="-1" strike="noStrike">
                <a:solidFill>
                  <a:srgbClr val="404040"/>
                </a:solidFill>
                <a:latin typeface="Verdana"/>
              </a:rPr>
              <a:t>edno spremljanja in kontrolira izvajanje projektnih dejavnosti partnerjev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ZoneTexte 8"/>
          <p:cNvSpPr/>
          <p:nvPr/>
        </p:nvSpPr>
        <p:spPr>
          <a:xfrm>
            <a:off x="1044720" y="103320"/>
            <a:ext cx="5849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Odgovorno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nosilca projek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ZoneTexte 8"/>
          <p:cNvSpPr/>
          <p:nvPr/>
        </p:nvSpPr>
        <p:spPr>
          <a:xfrm>
            <a:off x="1044720" y="1795320"/>
            <a:ext cx="9055080" cy="46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Učinkovito upravljanje in koordin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 usmerjevalni od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5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 oseba, odgovorna za upravljanje in koordinaci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Komunikacija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z nosilcem programa pote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-  preko nosilca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v slovenskem jeziku (izjema poročilo o upravičenosti izdatkov tujih partnerj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ZoneTexte 8"/>
          <p:cNvSpPr/>
          <p:nvPr/>
        </p:nvSpPr>
        <p:spPr>
          <a:xfrm>
            <a:off x="1044720" y="103320"/>
            <a:ext cx="5849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Odgovorno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nosilca projek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Skupina 7"/>
          <p:cNvGrpSpPr/>
          <p:nvPr/>
        </p:nvGrpSpPr>
        <p:grpSpPr>
          <a:xfrm>
            <a:off x="979560" y="4765680"/>
            <a:ext cx="8969400" cy="685800"/>
            <a:chOff x="979560" y="4765680"/>
            <a:chExt cx="8969400" cy="685800"/>
          </a:xfrm>
        </p:grpSpPr>
        <p:sp>
          <p:nvSpPr>
            <p:cNvPr id="967" name="Pravokotnik 1"/>
            <p:cNvSpPr/>
            <p:nvPr/>
          </p:nvSpPr>
          <p:spPr>
            <a:xfrm>
              <a:off x="979560" y="4765680"/>
              <a:ext cx="24271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sl-SI" sz="2300" spc="-1" strike="noStrike">
                  <a:solidFill>
                    <a:srgbClr val="ffffff"/>
                  </a:solidFill>
                  <a:latin typeface="Calibri"/>
                </a:rPr>
                <a:t>Nosilec program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Pravokotnik 4"/>
            <p:cNvSpPr/>
            <p:nvPr/>
          </p:nvSpPr>
          <p:spPr>
            <a:xfrm>
              <a:off x="4270320" y="4765680"/>
              <a:ext cx="24271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sl-SI" sz="2300" spc="-1" strike="noStrike">
                  <a:solidFill>
                    <a:srgbClr val="ffffff"/>
                  </a:solidFill>
                  <a:latin typeface="Calibri"/>
                </a:rPr>
                <a:t>Nosilec projekt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Pravokotnik 5"/>
            <p:cNvSpPr/>
            <p:nvPr/>
          </p:nvSpPr>
          <p:spPr>
            <a:xfrm>
              <a:off x="7521840" y="4765680"/>
              <a:ext cx="24271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03280"/>
                  <a:tab algn="l" pos="1006560"/>
                  <a:tab algn="l" pos="1509840"/>
                  <a:tab algn="l" pos="2013120"/>
                  <a:tab algn="l" pos="2516040"/>
                  <a:tab algn="l" pos="3019320"/>
                  <a:tab algn="l" pos="3522600"/>
                  <a:tab algn="l" pos="4025880"/>
                  <a:tab algn="l" pos="4529160"/>
                  <a:tab algn="l" pos="5032440"/>
                  <a:tab algn="l" pos="5535720"/>
                  <a:tab algn="l" pos="6039000"/>
                  <a:tab algn="l" pos="6541920"/>
                  <a:tab algn="l" pos="7045200"/>
                  <a:tab algn="l" pos="7548480"/>
                  <a:tab algn="l" pos="8051760"/>
                  <a:tab algn="l" pos="8555040"/>
                  <a:tab algn="l" pos="9058320"/>
                  <a:tab algn="l" pos="9561600"/>
                  <a:tab algn="l" pos="10064880"/>
                </a:tabLst>
              </a:pPr>
              <a:r>
                <a:rPr b="1" lang="sl-SI" sz="2300" spc="-1" strike="noStrike">
                  <a:solidFill>
                    <a:srgbClr val="ffffff"/>
                  </a:solidFill>
                  <a:latin typeface="Calibri"/>
                </a:rPr>
                <a:t>Projektni partn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0" name="Raven puščični povezovalnik 3"/>
            <p:cNvCxnSpPr/>
            <p:nvPr/>
          </p:nvCxnSpPr>
          <p:spPr>
            <a:xfrm>
              <a:off x="3429000" y="5108040"/>
              <a:ext cx="791280" cy="1080"/>
            </a:xfrm>
            <a:prstGeom prst="straightConnector1">
              <a:avLst/>
            </a:prstGeom>
            <a:ln w="44280">
              <a:solidFill>
                <a:srgbClr val="c0504d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71" name="Raven puščični povezovalnik 9"/>
            <p:cNvCxnSpPr/>
            <p:nvPr/>
          </p:nvCxnSpPr>
          <p:spPr>
            <a:xfrm>
              <a:off x="6716880" y="5113080"/>
              <a:ext cx="791280" cy="1080"/>
            </a:xfrm>
            <a:prstGeom prst="straightConnector1">
              <a:avLst/>
            </a:prstGeom>
            <a:ln w="44280">
              <a:solidFill>
                <a:srgbClr val="c0504d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ZoneTexte 8"/>
          <p:cNvSpPr/>
          <p:nvPr/>
        </p:nvSpPr>
        <p:spPr>
          <a:xfrm>
            <a:off x="1044720" y="1495440"/>
            <a:ext cx="885024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Ustrezno in pravočasno poroč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riprava in predložitev skupnih poročil (izjema finančna poročila tujega partner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opolna poročila so predložena v predpisanih rok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Finančna odgovornost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rejema plačila nepovratnih sredstev in nakazuje sredstva partnerjem v skladu s S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V primeru odkritih nepravilnosti v celoti nosi finančno odgovornost zanje do nosilca programa. Lahko uporabi vsa pravna sredstva za izterjavo morebitno neupravičeno izplačanih sredstev partnerju v skladu z veljavno nacionalno zakonodajo in S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ZoneTexte 8"/>
          <p:cNvSpPr/>
          <p:nvPr/>
        </p:nvSpPr>
        <p:spPr>
          <a:xfrm>
            <a:off x="1044720" y="103320"/>
            <a:ext cx="5849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Odgovorno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nosilca projek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ZoneTexte 8"/>
          <p:cNvSpPr/>
          <p:nvPr/>
        </p:nvSpPr>
        <p:spPr>
          <a:xfrm>
            <a:off x="1044720" y="1776240"/>
            <a:ext cx="881856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Dokumentacija o izvajanju projekta, potrebna za finančno upravljanje, poročanje, spremljanje, kontrole, revizije in vrednotenja, je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ustrezno zbrana in arhivirana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zagotavljanje revizijske sl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ločena računovodska evidenca v računalniški obl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rok: še vsaj 3 leta po potrditvi končnega poročila o programu oz. v primeru državnih pomoči 10 let po njihovi dodelit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v tem obdobju mora biti omogočen dostop do vseh evidenc, dokumentov in rezultatov v sklopu projekta, z zagotavljanjem prostora in s sodelovanjem vseh odgovornih oseb projek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ZoneTexte 8"/>
          <p:cNvSpPr/>
          <p:nvPr/>
        </p:nvSpPr>
        <p:spPr>
          <a:xfrm>
            <a:off x="1044720" y="103320"/>
            <a:ext cx="5849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Odgovorno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Verdana"/>
              </a:rPr>
              <a:t>nosilca projek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ZoneTexte 8"/>
          <p:cNvSpPr/>
          <p:nvPr/>
        </p:nvSpPr>
        <p:spPr>
          <a:xfrm>
            <a:off x="1044720" y="1692360"/>
            <a:ext cx="881856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osilci projektov in projektni partnerji </a:t>
            </a:r>
            <a:r>
              <a:rPr b="1" lang="pl-PL" sz="2000" spc="-1" strike="noStrike">
                <a:solidFill>
                  <a:srgbClr val="404040"/>
                </a:solidFill>
                <a:latin typeface="Verdana"/>
              </a:rPr>
              <a:t>hranijo</a:t>
            </a: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pravno podlago in z njo povezano dokumentacijo (Pogodbo o projektu z NIP, Sporazum o partnerstvu, ipd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finančne listine in podporne dokumente (računi in druge listine enake dokazne vrednosti), dokazila o plačilih, računovodske evide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vsa poročila projekta ter zahtevke za povračilo sredstev, vključno z dokazili o prejemu sredstev in v primeru nosilcev projektov dokazili o nakazilih sredstev projektnim partnerj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dokazila o izvedbi postopkov javnega naročan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nastale izdelke projekta oz. dokazi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dokazila o revizijah projek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404040"/>
              </a:buClr>
              <a:buFont typeface="Verdana"/>
              <a:buChar char="-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Verdana"/>
              </a:rPr>
              <a:t>drugo ustrezno korespondenco v zvezi s projekt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Arhiviran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ZoneTexte 8"/>
          <p:cNvSpPr/>
          <p:nvPr/>
        </p:nvSpPr>
        <p:spPr>
          <a:xfrm>
            <a:off x="1044720" y="339840"/>
            <a:ext cx="5930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Verdana"/>
              </a:rPr>
              <a:t>Viri sofinancir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Diagram 6" descr=""/>
          <p:cNvPicPr/>
          <p:nvPr/>
        </p:nvPicPr>
        <p:blipFill>
          <a:blip r:embed="rId1"/>
          <a:stretch/>
        </p:blipFill>
        <p:spPr>
          <a:xfrm>
            <a:off x="1127160" y="1547640"/>
            <a:ext cx="8120160" cy="4975560"/>
          </a:xfrm>
          <a:prstGeom prst="rect">
            <a:avLst/>
          </a:prstGeom>
          <a:ln w="0">
            <a:noFill/>
          </a:ln>
        </p:spPr>
      </p:pic>
      <p:sp>
        <p:nvSpPr>
          <p:cNvPr id="980" name="ZoneTexte 8"/>
          <p:cNvSpPr/>
          <p:nvPr/>
        </p:nvSpPr>
        <p:spPr>
          <a:xfrm>
            <a:off x="1044720" y="6656400"/>
            <a:ext cx="8140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pl-PL" sz="1600" spc="-1" strike="noStrike">
                <a:solidFill>
                  <a:srgbClr val="404040"/>
                </a:solidFill>
                <a:latin typeface="Verdana"/>
              </a:rPr>
              <a:t>* naveden je primer deležev sofinanciranja projek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9:46:35Z</dcterms:created>
  <dc:creator>Utilisateur de Microsoft Office</dc:creator>
  <dc:description/>
  <dc:language>en-US</dc:language>
  <cp:lastModifiedBy>SFM</cp:lastModifiedBy>
  <cp:lastPrinted>2015-06-02T15:25:09Z</cp:lastPrinted>
  <dcterms:modified xsi:type="dcterms:W3CDTF">2015-06-02T15:38:54Z</dcterms:modified>
  <cp:revision>306</cp:revision>
  <dc:subject/>
  <dc:title>Reducing disparities _x0003_Strengthening relations</dc:title>
</cp:coreProperties>
</file>